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6DD16-3AD9-4949-B2A9-72602DE41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9C96-E561-4CF9-98B5-58F964747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83E65-A5E7-4074-9989-FB4DF9BB4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4AA5F-1E9A-48FC-B250-A79ECAC09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781A1-6464-4154-A0C6-3C323AC1E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52C2F-84D1-4FC0-9950-DF5469C15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050B8-18AB-4815-8039-4B4BC733D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B54EB-5082-4376-AE89-7A1A438AB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EEBB3-F850-483D-AA54-422A9749D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DCDE5-4014-4C96-A4F5-6ECB6D413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3446D-2BE5-4F34-9F59-5029E94F3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562E-A8C5-4780-8EB4-F98555E65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EF806-B38B-4C19-8898-06A7F751C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6D82F-F8EC-4F32-AF30-0823073B6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837F6-54EA-4E43-A3DB-088A10646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68F13-5E0C-4B7B-A4C2-FD3C20F72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35E4C-92D7-49C8-BB24-16AA2C2A0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494E8C-7317-4997-98B4-F4F1B0BE8A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43B127-DF65-4660-96A7-DB80C0F17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ED509F-621E-44CF-BCE0-F20294FF3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639B3B-1771-4506-9941-E36C3A5B5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74C8B2-935D-41C9-A679-89B68BE2C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8782C-DA49-4D40-A6D0-57630336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AF340A-44F9-44CE-888D-4FE7D0737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E725D5-4ECA-4BF7-B65B-34B199672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E1DE4E-2B0D-42CE-A9B0-CECEEE6AC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6800E7-01D2-45E9-8898-7C8326F4E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3319C3-46C2-4783-A9FC-CC1961013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05F057-2618-49CA-B7C9-283DFB2FB1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F1D3FA-FFAC-455E-94A7-2CD5A78D9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E4ED8-081A-46A0-A7E5-2F2AE9C4C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B9F1F-F32C-4B30-943C-976F2DA7C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72ABE-2159-4A89-BD04-0E3DBC87A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13D2-7F61-49EF-BC00-8991A90AC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BCD1E-2E9A-4B3F-90B5-89041588B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79B3D-59AB-4C4E-99FD-EDB183619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00A9B-67EB-4330-9E20-2ADEEDCD4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3B216-8C07-4C49-AF81-B0B20C6AD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6FB97-0D46-4554-9D56-1095C15FB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397AB-2872-4143-91E8-8C566BA09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01825-59D6-4693-957F-379535403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E5D5C3-BF62-4271-96CB-1F54A10D19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A4B7CC-3B81-40EF-A302-78F197513B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FC9A-5846-4517-A01B-BB933972A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643C-C30A-4530-ACED-008D53D9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3B37-E454-46D9-8897-1BAD8FCCE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D90C-DF54-4928-AA9F-C2D2831B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824E-F179-4703-9008-57720B5BB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2464-01AE-4948-8CBB-8B11A95FAAD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9D4F-D0A6-418C-86A1-F8072679D602}"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608E-E3B4-4D9F-A731-2DAEF9DD689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59F5-592E-4E89-AABE-C2EE5987B68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ATuBscFxi9U" TargetMode="External"/><Relationship Id="rId2" Type="http://schemas.openxmlformats.org/officeDocument/2006/relationships/hyperlink" Target="http://www.youtube.com/watch?v=ATuBscFxi9U"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Introduction to Literature:</a:t>
            </a:r>
            <a:br>
              <a:rPr sz="3200"/>
            </a:br>
            <a:r>
              <a:rPr b="0" lang="en-US" sz="3200" spc="-1" strike="noStrike">
                <a:solidFill>
                  <a:srgbClr val="94c600"/>
                </a:solidFill>
                <a:latin typeface="Century Gothic"/>
              </a:rPr>
              <a:t>“The Ant &amp; the Grasshopper”</a:t>
            </a:r>
            <a:endParaRPr b="0" lang="en-US" sz="32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Prof. Everson</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ENGL 201</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294920" y="7617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fiction?</a:t>
            </a:r>
            <a:endParaRPr b="0" lang="en-US" sz="4000" spc="-1" strike="noStrike">
              <a:solidFill>
                <a:srgbClr val="94c600"/>
              </a:solidFill>
              <a:latin typeface="Century Gothic"/>
            </a:endParaRPr>
          </a:p>
        </p:txBody>
      </p:sp>
      <p:sp>
        <p:nvSpPr>
          <p:cNvPr id="338" name="PlaceHolder 2"/>
          <p:cNvSpPr>
            <a:spLocks noGrp="1"/>
          </p:cNvSpPr>
          <p:nvPr>
            <p:ph/>
          </p:nvPr>
        </p:nvSpPr>
        <p:spPr>
          <a:xfrm>
            <a:off x="1142640" y="2133720"/>
            <a:ext cx="6637320" cy="4038480"/>
          </a:xfrm>
          <a:prstGeom prst="rect">
            <a:avLst/>
          </a:prstGeom>
          <a:noFill/>
          <a:ln w="0">
            <a:noFill/>
          </a:ln>
        </p:spPr>
        <p:txBody>
          <a:bodyPr anchor="t">
            <a:normAutofit/>
          </a:bodyPr>
          <a:p>
            <a:pPr marL="571680" indent="-571680">
              <a:lnSpc>
                <a:spcPct val="80000"/>
              </a:lnSpc>
              <a:spcBef>
                <a:spcPts val="7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entury Gothic"/>
              </a:rPr>
              <a:t>We all experience or encounter fiction nearly every day of our lives, but what is it?  How do we define fiction?  What  are the basic elements of it?</a:t>
            </a:r>
            <a:endParaRPr b="0" lang="en-US" sz="2900" spc="-1" strike="noStrike">
              <a:solidFill>
                <a:srgbClr val="3e3d2d"/>
              </a:solidFill>
              <a:latin typeface="Century Gothic"/>
            </a:endParaRPr>
          </a:p>
          <a:p>
            <a:pPr marL="571680" indent="-571680">
              <a:lnSpc>
                <a:spcPct val="80000"/>
              </a:lnSpc>
              <a:spcBef>
                <a:spcPts val="7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entury Gothic"/>
              </a:rPr>
              <a:t>Where or how do we encounter or experience fiction?</a:t>
            </a:r>
            <a:endParaRPr b="0" lang="en-US" sz="2900" spc="-1" strike="noStrike">
              <a:solidFill>
                <a:srgbClr val="3e3d2d"/>
              </a:solidFill>
              <a:latin typeface="Century Gothic"/>
            </a:endParaRPr>
          </a:p>
          <a:p>
            <a:pPr marL="571680" indent="-571680">
              <a:lnSpc>
                <a:spcPct val="80000"/>
              </a:lnSpc>
              <a:spcBef>
                <a:spcPts val="7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98989"/>
                </a:solidFill>
                <a:latin typeface="Century Gothic"/>
              </a:rPr>
              <a:t>Is fiction something we do or something done to us?  Can we reject or avoid fiction?</a:t>
            </a:r>
            <a:endParaRPr b="0" lang="en-US" sz="2900" spc="-1" strike="noStrike">
              <a:solidFill>
                <a:srgbClr val="3e3d2d"/>
              </a:solidFill>
              <a:latin typeface="Century Gothic"/>
            </a:endParaRPr>
          </a:p>
          <a:p>
            <a:pPr marL="5716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1447920"/>
            <a:ext cx="7696440" cy="3047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nsider a traditional story…</a:t>
            </a:r>
            <a:br>
              <a:rPr sz="4000"/>
            </a:br>
            <a:r>
              <a:rPr b="0" lang="en-US" sz="4000" spc="-1" strike="noStrike">
                <a:solidFill>
                  <a:srgbClr val="94c600"/>
                </a:solidFill>
                <a:latin typeface="Century Gothic"/>
              </a:rPr>
              <a:t>such as one of Aesop’s stories.</a:t>
            </a:r>
            <a:endParaRPr b="0" lang="en-US" sz="40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The Ant and the Grasshopper</a:t>
            </a:r>
            <a:br>
              <a:rPr sz="3600"/>
            </a:br>
            <a:r>
              <a:rPr b="0" lang="en-US" sz="3600" spc="-1" strike="noStrike">
                <a:solidFill>
                  <a:srgbClr val="94c600"/>
                </a:solidFill>
                <a:latin typeface="Century Gothic"/>
              </a:rPr>
              <a:t>by Aesop</a:t>
            </a:r>
            <a:endParaRPr b="0" lang="en-US" sz="3600" spc="-1" strike="noStrike">
              <a:solidFill>
                <a:srgbClr val="94c600"/>
              </a:solidFill>
              <a:latin typeface="Century Gothic"/>
            </a:endParaRPr>
          </a:p>
        </p:txBody>
      </p:sp>
      <p:sp>
        <p:nvSpPr>
          <p:cNvPr id="341" name="TextBox 2"/>
          <p:cNvSpPr/>
          <p:nvPr/>
        </p:nvSpPr>
        <p:spPr>
          <a:xfrm>
            <a:off x="914400" y="2438280"/>
            <a:ext cx="6781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e summer day a Grasshopper was hopping about, chirping and singing to its heart's content swinging on a stalk of wheat.   The sun was warm and bright, and around him were acres of grain, ripe and ready to ea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685800" y="671400"/>
            <a:ext cx="7772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 Ant passed by, bearing along with great toil an ear of corn he was taking to the nest.   She did not even stop to res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are you going with such a heavy load?” Said the Grasshopp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Home,” she said. “I have a big family to feed.”</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What’s the big hurry?” he asked. “It’s too hot to work so hard. And besides, there’s plenty of grain right here. Come and chat with me," said the Grasshopper, "instead of toiling and moiling in that way."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533520" y="1996920"/>
            <a:ext cx="8076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Harvest time is coming soon, and then all the grain will be gone,” the Ant said, running even fast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e was right. When the winter came the Grasshopper had no food and found itself dying of hunger - while it saw the ants distributing every day corn and grain from the stores they had collected in the summer.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
          <p:cNvSpPr/>
          <p:nvPr/>
        </p:nvSpPr>
        <p:spPr>
          <a:xfrm>
            <a:off x="914400" y="1143000"/>
            <a:ext cx="7010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Can you spare a few kernels for an old friend?” he asked h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r>
              <a:rPr b="0" lang="en-US" sz="2400" spc="-1" strike="noStrike">
                <a:solidFill>
                  <a:srgbClr val="000000"/>
                </a:solidFill>
                <a:latin typeface="Century Gothic"/>
              </a:rPr>
              <a:t>No I cannot,” said the Ant. “This is our whole supply for winter.  But don’t worry you will have plenty to eat next summ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And she sent the Grasshopper away hungry</a:t>
            </a:r>
            <a:r>
              <a:rPr b="0" lang="en-US" sz="1800" spc="-1" strike="noStrike">
                <a:solidFill>
                  <a:srgbClr val="000000"/>
                </a:solidFill>
                <a:latin typeface="Century Gothic"/>
              </a:rPr>
              <a:t>.</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7617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flect on the Story</a:t>
            </a:r>
            <a:endParaRPr b="0" lang="en-US" sz="4000" spc="-1" strike="noStrike">
              <a:solidFill>
                <a:srgbClr val="94c600"/>
              </a:solidFill>
              <a:latin typeface="Century Gothic"/>
            </a:endParaRPr>
          </a:p>
        </p:txBody>
      </p:sp>
      <p:sp>
        <p:nvSpPr>
          <p:cNvPr id="346" name="PlaceHolder 2"/>
          <p:cNvSpPr>
            <a:spLocks noGrp="1"/>
          </p:cNvSpPr>
          <p:nvPr>
            <p:ph/>
          </p:nvPr>
        </p:nvSpPr>
        <p:spPr>
          <a:xfrm>
            <a:off x="1142640" y="2133360"/>
            <a:ext cx="6637320" cy="3352680"/>
          </a:xfrm>
          <a:prstGeom prst="rect">
            <a:avLst/>
          </a:prstGeom>
          <a:noFill/>
          <a:ln w="0">
            <a:noFill/>
          </a:ln>
        </p:spPr>
        <p:txBody>
          <a:bodyPr anchor="t">
            <a:normAutofit/>
          </a:bodyPr>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What does the story mean?</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Have you heard it before?</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What kind of story is it?</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Is it good?  </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Is it useful? </a:t>
            </a:r>
            <a:endParaRPr b="0" lang="en-US" sz="2800" spc="-1" strike="noStrike">
              <a:solidFill>
                <a:srgbClr val="3e3d2d"/>
              </a:solidFill>
              <a:latin typeface="Century Gothic"/>
            </a:endParaRPr>
          </a:p>
          <a:p>
            <a:pPr marL="343080" indent="-343080">
              <a:spcBef>
                <a:spcPts val="7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entury Gothic"/>
              </a:rPr>
              <a:t>Who is the story made for?</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Now: Try the story another way …</a:t>
            </a:r>
            <a:endParaRPr b="0" lang="en-US" sz="4000" spc="-1" strike="noStrike">
              <a:solidFill>
                <a:srgbClr val="94c600"/>
              </a:solidFill>
              <a:latin typeface="Century Gothic"/>
            </a:endParaRPr>
          </a:p>
        </p:txBody>
      </p:sp>
      <p:sp>
        <p:nvSpPr>
          <p:cNvPr id="348"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entury Gothic"/>
              </a:rPr>
              <a:t>Link:</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68200"/>
                </a:solidFill>
                <a:uFillTx/>
                <a:latin typeface="Century Gothic"/>
                <a:hlinkClick r:id="rId1"/>
              </a:rPr>
              <a:t>http://</a:t>
            </a:r>
            <a:r>
              <a:rPr b="0" lang="en-US" sz="2000" spc="-1" strike="noStrike" u="sng">
                <a:solidFill>
                  <a:srgbClr val="e68200"/>
                </a:solidFill>
                <a:uFillTx/>
                <a:latin typeface="Century Gothic"/>
                <a:hlinkClick r:id="rId2"/>
              </a:rPr>
              <a:t>www.youtube.com/watch?v=ATuBscFxi9U</a:t>
            </a:r>
            <a:r>
              <a:rPr b="0" lang="en-US" sz="2000" spc="-1" strike="noStrike">
                <a:solidFill>
                  <a:srgbClr val="898989"/>
                </a:solidFill>
                <a:latin typeface="Century Gothic"/>
              </a:rPr>
              <a:t> </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0:09:00Z</dcterms:created>
  <dc:creator>Sally Everson</dc:creator>
  <dc:description/>
  <dc:language>en-US</dc:language>
  <cp:lastModifiedBy>Sally Everson</cp:lastModifiedBy>
  <dcterms:modified xsi:type="dcterms:W3CDTF">2011-06-06T01:33:18Z</dcterms:modified>
  <cp:revision>10</cp:revision>
  <dc:subject/>
  <dc:title>Fiction – Introduction to Literature</dc:title>
</cp:coreProperties>
</file>